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777-6EBA-4037-A0EE-074C0274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B58-E401-4F43-84E3-87C0C28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605-D179-4ED4-8BA6-EEBD48B0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F08-81FC-4AC4-9632-7222BEA3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E9D-F8C5-4390-95D7-8009D58A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9C7-0471-4987-980D-C4D97C4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D34-3B80-4FEF-827D-F2A07B0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05F-22B2-4EB9-8373-A2A472C7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89C-BA51-4142-A65A-31B03CE9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F36-E29C-4BED-AE4D-5D4D5E50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FDA-4628-4B42-8BE4-B1190C1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0AD-0C2E-4C6E-AB45-F32C989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77419-C4A9-4C3D-A61E-A173B8A97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s%202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p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lk.mp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a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ind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eak%20softly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lite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ps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st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od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ew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9680" y="1768320"/>
            <a:ext cx="51195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1768320"/>
            <a:ext cx="5707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1640" y="1768320"/>
            <a:ext cx="39942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00" y="1768320"/>
            <a:ext cx="7200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0" y="1768320"/>
            <a:ext cx="7603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38200" y="1768320"/>
            <a:ext cx="7204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4840" y="176832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6200" y="1768320"/>
            <a:ext cx="7525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768320"/>
            <a:ext cx="4236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768320"/>
            <a:ext cx="4289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6:50Z</dcterms:created>
  <dc:creator>dominique  camier</dc:creator>
  <dc:description/>
  <dc:language>en-US</dc:language>
  <cp:lastModifiedBy>dominique  camier</cp:lastModifiedBy>
  <dcterms:modified xsi:type="dcterms:W3CDTF">2014-03-05T10:18:05Z</dcterms:modified>
  <cp:revision>14</cp:revision>
  <dc:subject/>
  <dc:title/>
</cp:coreProperties>
</file>